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E373-71BF-4B33-8CD0-F602E9FE5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an idea – we can choose any design or th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CB98-CE96-4AD8-A03F-F775E9005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608B-E935-47B3-A4C2-975C83E5F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B0BA-FBD0-4602-B7B9-20C95F132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60E3-F398-4ABD-AB5B-386A445E4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B033-C9A1-4D9D-8EC9-8CEDC040D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3816-3B00-458D-9C58-1C5F32428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7C74-0D9E-402A-8A06-CAC83D912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4C3E-2A34-48AF-8B14-1BE12A777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6FB4-D6CF-43C1-B422-9CBCD84D9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don’t know if we want to use this, but I thought it looked cool and it has a lot of good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898A-7821-416D-9F90-3C2391CAF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E694-3A01-4253-918C-A6AA79412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A557-C4E6-4E11-9FFA-FE3732DF9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C6E-8A60-49FB-B2E2-8DCDD5F2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94D-8A3F-407A-855D-55D5B231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C36-6048-4A1D-830D-398ADA5C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2988-9C5F-45A1-A640-752A04E1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9339-3B3E-4547-9689-4B8F8F71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9F3A-1037-4DFA-94D9-7DE945D3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12D1-23DB-4472-AACC-1300F287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E086-8E69-423A-96FA-D1A92FE2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D1CB-52C1-45C6-8A78-63614849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2FE4-370D-4E87-BC40-A15580BD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28B8-54D6-4A79-A4E3-379F77DC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4E1-3B23-4AB4-8F5B-78FFD05D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10A4-5047-43A7-984B-5B504AD4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6D9F-A2F0-4F7E-BA84-57736390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94EF-7CC4-4703-8F77-A52FF417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AA2A-F539-430D-B24F-3ADC77A5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96D8-88C2-41B3-B877-CEC0043A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1ABAC-5AE4-486E-B906-D029CA05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56C95-8F96-4794-AC7A-52031204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6BBDC-395C-4354-B472-AD492AA1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3C1D3-6F5F-4955-BFF3-4C52BF00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94EF5-5360-4B8F-82A0-B34016A6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E52-0B69-4A74-A8AF-61145877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2CB21-2809-42A0-886E-67208678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82C90-DBD4-4E57-8C72-BFB87F4A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0CC52-6666-46E6-B1C5-D77BB2FA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4EBF49-1334-4C04-89A6-6B560FBF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4D334-16F5-4A89-B1B2-43912CC2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E9F86-DCB2-4A50-8B58-96192DD5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2001B-060B-4519-9377-35D038DF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AE30E6-B6C0-482C-A05B-A717739D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4A79F8-209D-4BCA-858D-3DF00422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82AE2A-2453-42A2-9022-84E44324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79CB-C35C-4011-914E-751BBFC8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CB4370-08DE-4508-986C-B34D99E7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EE6187-60E4-47D7-9D89-B893CB50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F54247-A0D4-4CA7-8F51-667F33F5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6D3DB-4449-43B4-8C05-116CFC52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A8D987-C534-4C3E-8859-EE3C38FF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F240CF-611F-4D6F-BD3E-A1E9D740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46E81A-B5D7-44A7-9C7A-6BC0B70E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414486-C0D2-4DCF-8585-10F8D5E4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8945DE-01A4-4223-905A-EEF417C3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F29CF-2079-437C-9DD0-ADA3F5DC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BEE-D9E8-4389-8A8A-C74D314C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33B4BF-9D5D-45C9-83D4-A6E6FB3C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99865-515B-46AE-BE40-E00904D5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87D0D3-4CEC-4DCA-BB83-9F890923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5041F3-A0C7-44E5-AD90-754878FD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95D65C-EC78-4CE7-968E-78AC5356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5064D4-F376-4C83-92A9-2FC4C6BF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702BD1-98B0-4B8F-8DEF-F5190E9A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10667-D636-41D7-BF17-344861CD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6551CA-F1D3-4842-B9FA-D809A45E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28FB8-2012-4FE9-B726-D4B58E56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781-FA03-42F6-96D0-10E98EE5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0E1F1D-A538-4DC8-AA1B-326B8F64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C5E6C-2FAD-4392-B1AD-D59183EA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C3DC3-3E5C-4931-BEB9-D421D26D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07EB4-7193-4431-85DF-80A9F8C2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41478-C938-490B-AEF0-815E3C77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2F6F9-4E4B-4956-B1C0-73B2AB89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AAC25-4B40-46C5-B3F0-48735C75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D7E2A-6AE7-4E54-82BF-C151C8C8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E3491-9C57-4EBD-9DFB-06C0AC19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43C7A-A3D5-49D0-ABAA-533EA005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BD5D-9A25-41E5-8FE4-2ECA4F6A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96DAB-1201-4832-B132-1BAA5862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479C3-1241-46BE-B2CA-9C9C50AF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2D287-4018-4AEE-B0DF-81D516BE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EEB034-7B01-46E4-8135-59D3BAE7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7A0629-6598-44C0-BCC1-910C5FB9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07E79B-7334-45AF-8EE4-46F8ED8E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E73948-FC45-41AF-AF38-52A3AFB1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0F9CB0-A7DB-4BD4-957D-833C9E19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BBACE7-3A55-4878-A275-A47AF122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3D2D7B-9EE8-4CE9-AC74-6E8EC4A8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2DB-598D-4887-94C4-F572CDA0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988349-D702-4A25-A81C-E07F26BD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AD02A-4B51-4F46-9E10-252080A8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F3AF7E-68A8-455B-988A-27B67C96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A91A51-C7DE-477C-B832-5310B8B0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91AEA0-CE23-41B4-AB9B-E012A259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F5496-1544-4C63-8535-681F0D51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FED19-961E-471A-BCC9-C8D18C3C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CAF45-5DF1-4A42-8CA0-5FCC9AC3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C5840-2E67-4883-8A1A-5A1818AA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50E29-78B7-4866-8CB0-A92FC14A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B4E-8538-4718-B1F0-A7229CFE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8920F-228F-4D46-915D-195C6369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8351D-B4C8-4552-B956-0EF79BA9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B3A2E-5677-4237-B0EE-F0BD2102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3699A-EAB6-4835-8DD0-443CD241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5404B-8DF4-4147-9A89-5513C222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44696-8214-4848-BC49-2A07551B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17575-4BD7-402A-BC38-5ABA43D3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2034-700E-43B8-987E-796D4FED953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CFEA-3162-441D-9E59-2262A85E3B89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BB99-D002-484E-BF41-E496731C122E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BE55-868D-4ED5-8595-F2A4738E638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8BB2-FDCC-4B25-AE2F-AA0DAA09B2D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AB00-6A9B-4592-9D6F-1930A28F6059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4B55-95CD-4A92-AF78-82BE7D81DBAE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D611-3A5E-4E7D-8731-313FCAC1F94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ephenslighthouse.sirsidynix.com/archives/2009/02/measuring_libr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SIRSI DYNIX SYMPHON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e library automation system we need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Notable Features:</a:t>
            </a:r>
            <a:br>
              <a:rPr sz="4400"/>
            </a:b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ChiliFres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hiliFresh Review Engine: a complete social network embedded directly in a library's catalog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Embed patron-written book reviews directly into catalog recor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ncorporate a number of social networking features such as: profiles, content lists, chat and messaging options, and forums for book discussio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Users will utilize these features from The Bookshelf and will be able to gather and make reviews on favorite work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Recommendations and suggestions from friends and other users with related interests can be accessed from The Bookshelf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Notable Features:</a:t>
            </a:r>
            <a:br>
              <a:rPr sz="4400"/>
            </a:b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InfOhio (SchoolRoom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he statewide library network in Ohio, INFOhio, and SirsiDynix launched a new learning site with an assortment of resourc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 of these resources are available from one single port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choolRooms has 70 rooms full of educational material where students can find information on almost any topic they are looking for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eachers, students, and even parents have access to these room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Every INFOhio automated school has access to this port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bram, S. (2009, February 23). 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Measuring libraries.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Stephen's Lighthouse [Blog]. Retrieved July 2, 2009 from </a:t>
            </a:r>
            <a:r>
              <a:rPr b="0" lang="en-US" sz="16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stephenslighthouse.sirsidynix.com/archives/2009/02/measuring_libra.html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Hadro, J. (2009, January). SirsiDynix Adds Chilifresh Engine. Library Journal, 2009 (issue 1). Retrieved June 30, 2009, from http://www.libraryjournal.com/article/CA6625166.html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Hadro, J. (2008, October 15). 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Director's station for usage stats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. Library Journal. Retrieved July 2, 2009, from http://www.libraryjournal.com/article/CA6602837.html?industryid=4712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Hadro, J. (2008, November 1). Updates emerge from SirsiDynix. Library Journal. Retrieved July 2, 2009 from http://www.libraryjournal.com/article/CA6606474.html?industryid=47125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irsiDynix. (2007, June 23). 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SirsiDynix introduces SirsiDynix Symphony as new integrated library system.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Retrieved July 2, 2009, from Library Technology Guides: http://www.librarytechnology.org/ltg-displayarticle.pl?RC=126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irsiDynix (2008, December 2). SirsiDynix StaffWeb brochure. Retrieved July 6, 2009, from www.sirsidynix.com/Resources/Pdfs/Solutions/Products/StaffWeb.pdf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talog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rsiDynix StaffWeb has cataloging abilities that support library staff in maintaining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tle and copy reco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 or maintain title, copy, and MARC record information for a tit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ws for cataloging reports for lost or missing reports, reading programs, and shelf lis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irc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65680" y="1600200"/>
            <a:ext cx="400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PocketCirc is a wireless handheld device that allows library staff to: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onduct daily circulation procedures 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nventory projects both online and offlin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 without having to be at a desktop worksta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rcRect l="15235" t="5689" r="0" b="9516"/>
          <a:stretch/>
        </p:blipFill>
        <p:spPr>
          <a:xfrm>
            <a:off x="304920" y="2362320"/>
            <a:ext cx="43052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irc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StaffWeb has circulation abilities to support library staff in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hecking copies in and out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creening the status of copi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Placing hol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Maintaining and screening patron account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dding short title recor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s for the following circulation reports: copies on loan, copies on hold, copy status, copies in transit, fine list, and overdue lis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por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ly effective decision making too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bility to customize the reports to fit our nee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program comes with more than 600 standard reports and utiliti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port Capabilit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lection analys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termine if the library holdings support the curriculum of the schoo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eriodically determine the age of the colle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erials collection evalu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quisitions budg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etermine at any point in time the state of the budget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ircul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etermine usage of the collection, including overall numbers and statistics for particular subject area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44360" y="152280"/>
            <a:ext cx="8825040" cy="65296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9"/>
          <p:cNvSpPr/>
          <p:nvPr/>
        </p:nvSpPr>
        <p:spPr>
          <a:xfrm>
            <a:off x="1143000" y="648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www.sirsidynix.com/Solutions/Products/integratedsystems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tr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Symphony with the assistance of the PocketCirc benefits out patrons by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ing new users to be registered on the spot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ontinue helping patrons when network problems or power outages occur -- Circulation tasks can be completed in offline mode and uploaded at a later tim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s patrons to be assisted in finding materials and then receive on-the-spot checkou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ana Shared Catalo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s a SirsiDynix syst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b bas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re than 80 libraries in Montana particip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ublic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chool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cademic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dical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pecial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9:46:36Z</dcterms:created>
  <dc:creator>lisa brennan</dc:creator>
  <dc:description/>
  <dc:language>en-US</dc:language>
  <cp:lastModifiedBy>lisa brennan</cp:lastModifiedBy>
  <dcterms:modified xsi:type="dcterms:W3CDTF">2009-07-09T18:15:42Z</dcterms:modified>
  <cp:revision>13</cp:revision>
  <dc:subject/>
  <dc:title>Slide 1</dc:title>
</cp:coreProperties>
</file>